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B908-7A78-4F8F-99B6-1E88F7B2E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D0BA-5A87-405E-837B-D39955903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1658-1944-46B8-AC1F-550097EEA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8D17-42EA-462B-A7DA-00CA2B9FA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6F97-5956-4A03-974F-18995B810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BDF1-E027-4799-8965-A70076EE3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97F0-E5A8-46D6-BC59-0E0B284C1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CB6F-391A-401D-BA95-049E3B8E8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C3BA-75C1-40D8-BE79-BF087A84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E5E2-6971-4F43-BAD0-583040D1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C227-9F32-42BF-BADC-2A017B9A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1ECF-0112-492A-805B-F45037D0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15BBB-4E46-45F5-8EDC-5CB8744EE98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29280" y="1857240"/>
            <a:ext cx="49147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AdventureC"/>
              </a:rPr>
              <a:t>Иллюзии и интерпретации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AdventureC"/>
              </a:rPr>
              <a:t>Иеронима Босха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AdventureC"/>
              </a:rPr>
              <a:t>1450-1516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714240" y="785880"/>
            <a:ext cx="3857760" cy="505944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3"/>
          <p:cNvSpPr/>
          <p:nvPr/>
        </p:nvSpPr>
        <p:spPr>
          <a:xfrm>
            <a:off x="5572080" y="6143760"/>
            <a:ext cx="3571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0f0"/>
                </a:solidFill>
                <a:latin typeface="AdventureC"/>
              </a:rPr>
              <a:t>Фесенко Александр Оттович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0f0"/>
                </a:solidFill>
                <a:latin typeface="AdventureC"/>
              </a:rPr>
              <a:t>Учитель изобразительного искусств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0f0"/>
                </a:solidFill>
                <a:latin typeface="AdventureC"/>
              </a:rPr>
              <a:t>МБОУ «Высокоключевая СОШ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357800" y="5714640"/>
            <a:ext cx="49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Человек-дерево в пейзаже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9" name="Picture 5" descr="Человек-дерево в пейзаже"/>
          <p:cNvPicPr/>
          <p:nvPr/>
        </p:nvPicPr>
        <p:blipFill>
          <a:blip r:embed="rId2"/>
          <a:stretch/>
        </p:blipFill>
        <p:spPr>
          <a:xfrm>
            <a:off x="357120" y="306360"/>
            <a:ext cx="4714920" cy="61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5571720"/>
            <a:ext cx="285768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Искушение Святого Антония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1" name="Рисунок 3" descr="искушение Св Антония.jpg"/>
          <p:cNvPicPr/>
          <p:nvPr/>
        </p:nvPicPr>
        <p:blipFill>
          <a:blip r:embed="rId2"/>
          <a:stretch/>
        </p:blipFill>
        <p:spPr>
          <a:xfrm>
            <a:off x="2843280" y="0"/>
            <a:ext cx="630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530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Монстры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3" name="Picture 4" descr="монстры"/>
          <p:cNvPicPr/>
          <p:nvPr/>
        </p:nvPicPr>
        <p:blipFill>
          <a:blip r:embed="rId2"/>
          <a:stretch/>
        </p:blipFill>
        <p:spPr>
          <a:xfrm>
            <a:off x="357120" y="928800"/>
            <a:ext cx="862812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4"/>
          <p:cNvSpPr/>
          <p:nvPr/>
        </p:nvSpPr>
        <p:spPr>
          <a:xfrm>
            <a:off x="444600" y="5715000"/>
            <a:ext cx="272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вятой  Антоний.1500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Рисунок 3" descr="Св Антоний.jpg"/>
          <p:cNvPicPr/>
          <p:nvPr/>
        </p:nvPicPr>
        <p:blipFill>
          <a:blip r:embed="rId2"/>
          <a:stretch/>
        </p:blipFill>
        <p:spPr>
          <a:xfrm>
            <a:off x="3571920" y="0"/>
            <a:ext cx="4856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2"/>
          <p:cNvSpPr/>
          <p:nvPr/>
        </p:nvSpPr>
        <p:spPr>
          <a:xfrm>
            <a:off x="4811040" y="6357960"/>
            <a:ext cx="22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ознесение. 1504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" name="Рисунок 3" descr="Вознесение.jpg"/>
          <p:cNvPicPr/>
          <p:nvPr/>
        </p:nvPicPr>
        <p:blipFill>
          <a:blip r:embed="rId2"/>
          <a:stretch/>
        </p:blipFill>
        <p:spPr>
          <a:xfrm>
            <a:off x="714240" y="0"/>
            <a:ext cx="2949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2"/>
          <p:cNvSpPr/>
          <p:nvPr/>
        </p:nvSpPr>
        <p:spPr>
          <a:xfrm>
            <a:off x="1099800" y="6286680"/>
            <a:ext cx="32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есение креста. 1515-1516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Рисунок 3" descr="Несение креста 1.jpg"/>
          <p:cNvPicPr/>
          <p:nvPr/>
        </p:nvPicPr>
        <p:blipFill>
          <a:blip r:embed="rId2"/>
          <a:stretch/>
        </p:blipFill>
        <p:spPr>
          <a:xfrm>
            <a:off x="4429080" y="0"/>
            <a:ext cx="3676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1214280" y="1643040"/>
            <a:ext cx="18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u.wikipedia.org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Прямоугольник 2"/>
          <p:cNvSpPr/>
          <p:nvPr/>
        </p:nvSpPr>
        <p:spPr>
          <a:xfrm>
            <a:off x="1171440" y="228600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mallbay.ru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Прямоугольник 3"/>
          <p:cNvSpPr/>
          <p:nvPr/>
        </p:nvSpPr>
        <p:spPr>
          <a:xfrm>
            <a:off x="1214280" y="2714760"/>
            <a:ext cx="17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ibliotekar.ru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2617560" y="642960"/>
            <a:ext cx="31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Использованные ресурс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285840" y="1357200"/>
            <a:ext cx="8858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dventureC"/>
              </a:rPr>
              <a:t>Босх Хиеронимус ван Акен, (около 1450/60–1516), великий нидерландский живописец. Работал главным образом в Хертогенбосе в Северной Фландрии. Один из наиболее ярких мастеров раннего Северного Возрождения, Иероним Босх в своих многофигурных композициях сочетал изощренную средневековую фантастику с необычными для искусства его эпохи реалистическими новшествами. Стиль Босха уникален и не имеет аналогий в нидерландской живописной традиции. 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571680" y="2000160"/>
            <a:ext cx="8572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ллю́зи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лат. 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illusio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— заблуждение, обман) — искаженное восприятие реально существующего объекта или явлени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TextBox 2"/>
          <p:cNvSpPr/>
          <p:nvPr/>
        </p:nvSpPr>
        <p:spPr>
          <a:xfrm>
            <a:off x="571680" y="3357720"/>
            <a:ext cx="10180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Интерпретаци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 индивидуальная трактовка исполнителем исполняемог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оизведения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 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214200" y="1720800"/>
            <a:ext cx="85010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dventureC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dventureC"/>
              </a:rPr>
              <a:t>Есть повод говорить, даже по прошествии  пяти сотен лет, об особом взгляде Босха на  жизнь и действительнос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dventureC"/>
              </a:rPr>
              <a:t>Он стоит особняком не только  среди современников и сограждан , но и в целом, значит мы имеем дело с гение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dventureC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dventureC"/>
              </a:rPr>
              <a:t>Слово иллюзорное вряд ли подходит в этом случае, но найти более подходящее  не удается. Босх интерпретирует  жизненные картины на своих полотнах  жестоко и точно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dventureC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dventureC"/>
              </a:rPr>
              <a:t>И мы видим что это верн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5714640"/>
            <a:ext cx="4000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Несение креста. 1516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9" name="Picture 4" descr="D:\MyDoc\Документы - Папа\Комплексная программа\Репродукции\Брейгель\несение креста.jpg"/>
          <p:cNvPicPr/>
          <p:nvPr/>
        </p:nvPicPr>
        <p:blipFill>
          <a:blip r:embed="rId2"/>
          <a:stretch/>
        </p:blipFill>
        <p:spPr>
          <a:xfrm>
            <a:off x="2214720" y="571680"/>
            <a:ext cx="6124320" cy="55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6160" y="5928840"/>
            <a:ext cx="4857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Увенчание терновым венком.</a:t>
            </a:r>
            <a:br>
              <a:rPr sz="20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1490е – 1500е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1" name="Picture 4" descr="D:\MyDoc\Документы - Папа\Комплексная программа\Репродукции\Брейгель\увенчание терновым венком.jpg"/>
          <p:cNvPicPr/>
          <p:nvPr/>
        </p:nvPicPr>
        <p:blipFill>
          <a:blip r:embed="rId2"/>
          <a:stretch/>
        </p:blipFill>
        <p:spPr>
          <a:xfrm>
            <a:off x="1428840" y="428760"/>
            <a:ext cx="466704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500040" y="5214960"/>
            <a:ext cx="48578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Корабль дураков. 1490е-1500е .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3" name="Picture 4" descr="D:\MyDoc\Документы - Папа\Комплексная программа\Репродукции\Брейгель\корабль дураков.jpg"/>
          <p:cNvPicPr/>
          <p:nvPr/>
        </p:nvPicPr>
        <p:blipFill>
          <a:blip r:embed="rId2"/>
          <a:stretch/>
        </p:blipFill>
        <p:spPr>
          <a:xfrm>
            <a:off x="4000680" y="47520"/>
            <a:ext cx="344772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929200" y="5857920"/>
            <a:ext cx="3214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Блудный сын. 1503.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214200" y="428760"/>
            <a:ext cx="60724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5714640"/>
            <a:ext cx="414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Воз сена. 1500-1502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7" name="Рисунок 3" descr="Воз сена.jpg"/>
          <p:cNvPicPr/>
          <p:nvPr/>
        </p:nvPicPr>
        <p:blipFill>
          <a:blip r:embed="rId2"/>
          <a:stretch/>
        </p:blipFill>
        <p:spPr>
          <a:xfrm>
            <a:off x="3571920" y="0"/>
            <a:ext cx="4879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1T16:56:12Z</dcterms:created>
  <dc:creator>Фесенко</dc:creator>
  <dc:description/>
  <dc:language>en-US</dc:language>
  <cp:lastModifiedBy>КарМаН</cp:lastModifiedBy>
  <dcterms:modified xsi:type="dcterms:W3CDTF">2012-04-24T10:39:42Z</dcterms:modified>
  <cp:revision>24</cp:revision>
  <dc:subject/>
  <dc:title>Иллюзии и ассоциации  Иеронима Босха 1450-1516</dc:title>
</cp:coreProperties>
</file>